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E49128-959C-4502-A596-63380FB05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ive Databinding, a short tutorial on how to bind your object model to you GUI using the .NET framework databinding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72440" cy="6867360"/>
            <a:chOff x="0" y="0"/>
            <a:chExt cx="9172440" cy="68673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72440" cy="686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914400" y="0"/>
              <a:ext cx="685800" cy="6867360"/>
              <a:chOff x="914400" y="0"/>
              <a:chExt cx="685800" cy="6867360"/>
            </a:xfrm>
          </p:grpSpPr>
          <p:sp>
            <p:nvSpPr>
              <p:cNvPr id="3" name=""/>
              <p:cNvSpPr/>
              <p:nvPr/>
            </p:nvSpPr>
            <p:spPr>
              <a:xfrm>
                <a:off x="914400" y="395280"/>
                <a:ext cx="685800" cy="107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914400" y="0"/>
                <a:ext cx="228600" cy="6867360"/>
                <a:chOff x="914400" y="0"/>
                <a:chExt cx="228600" cy="686736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1123920" y="0"/>
                  <a:ext cx="0" cy="380880"/>
                </a:xfrm>
                <a:prstGeom prst="line">
                  <a:avLst/>
                </a:prstGeom>
                <a:ln w="38160">
                  <a:solidFill>
                    <a:srgbClr val="b3b3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914400" y="399960"/>
                  <a:ext cx="228600" cy="0"/>
                </a:xfrm>
                <a:prstGeom prst="line">
                  <a:avLst/>
                </a:prstGeom>
                <a:ln w="38160">
                  <a:solidFill>
                    <a:srgbClr val="b3b3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914400" y="380880"/>
                  <a:ext cx="0" cy="1105200"/>
                </a:xfrm>
                <a:prstGeom prst="line">
                  <a:avLst/>
                </a:prstGeom>
                <a:ln w="38160">
                  <a:solidFill>
                    <a:srgbClr val="b3b3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914400" y="1467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b3b3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123920" y="1447920"/>
                  <a:ext cx="0" cy="5419440"/>
                </a:xfrm>
                <a:prstGeom prst="line">
                  <a:avLst/>
                </a:prstGeom>
                <a:ln w="38160">
                  <a:solidFill>
                    <a:srgbClr val="b3b3b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6280" indent="-237960">
              <a:spcBef>
                <a:spcPts val="601"/>
              </a:spcBef>
              <a:buClr>
                <a:srgbClr val="2561a7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825560" indent="-2253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168640" indent="-171720">
              <a:spcBef>
                <a:spcPts val="601"/>
              </a:spcBef>
              <a:buClr>
                <a:srgbClr val="2561a7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168640" indent="-17172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168640" indent="-17172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7620120" y="6324480"/>
            <a:ext cx="1143000" cy="3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51840" y="6019920"/>
            <a:ext cx="1663560" cy="676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67280" y="1247760"/>
            <a:ext cx="4848120" cy="403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14440" y="2057040"/>
            <a:ext cx="4800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172200"/>
            <a:ext cx="3810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Narrow"/>
              </a:rPr>
              <a:t>Tim Jarv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Narrow"/>
              </a:rPr>
              <a:t>Senior Consul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Narrow"/>
              </a:rPr>
              <a:t>Borland PSO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cc3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fbcc30"/>
              </a:solidFill>
              <a:latin typeface="Arial Narrow"/>
            </a:endParaRPr>
          </a:p>
          <a:p>
            <a:pPr lvl="1" marL="457200" algn="ct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2" marL="914400" indent="223920" algn="ctr">
              <a:spcBef>
                <a:spcPts val="224"/>
              </a:spcBef>
              <a:buClr>
                <a:srgbClr val="2561a7"/>
              </a:buClr>
              <a:buSzPct val="7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3" marL="1371600" indent="228600" algn="ctr">
              <a:spcBef>
                <a:spcPts val="201"/>
              </a:spcBef>
              <a:buClr>
                <a:srgbClr val="2561a7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4" marL="1828800" indent="168120" algn="ctr">
              <a:spcBef>
                <a:spcPts val="201"/>
              </a:spcBef>
              <a:buClr>
                <a:srgbClr val="2561a7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5" marL="1828800" indent="16812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6" marL="1828800" indent="16812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67280" y="1247760"/>
            <a:ext cx="4848120" cy="403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38120" y="2437920"/>
            <a:ext cx="487692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2375"/>
              </a:spcBef>
              <a:spcAft>
                <a:spcPts val="2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20120" y="6324480"/>
            <a:ext cx="1143000" cy="3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codeproject.com/vb/net/databindingconcepts.asp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support.microsoft.com/default.aspx?scid=kb;EN-US;Q313482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14440" y="2057040"/>
            <a:ext cx="48006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reative Databinding</a:t>
            </a:r>
            <a:br>
              <a:rPr sz="3800"/>
            </a:br>
            <a:r>
              <a:rPr b="0" lang="en-US" sz="3800" spc="-1" strike="noStrike">
                <a:solidFill>
                  <a:srgbClr val="808080"/>
                </a:solidFill>
                <a:latin typeface="Arial Narrow"/>
              </a:rPr>
              <a:t>With Delphi 8 for .NE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GB" sz="3600" spc="-1" strike="noStrike">
                <a:solidFill>
                  <a:srgbClr val="808080"/>
                </a:solidFill>
                <a:latin typeface="Arial Narrow"/>
              </a:rPr>
              <a:t>Thanks t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2561a7"/>
                </a:solidFill>
                <a:uFillTx/>
                <a:latin typeface="Arial Narrow"/>
                <a:hlinkClick r:id="rId3"/>
              </a:rPr>
              <a:t>http://www.codeproject.com/vb/net/databindingconcepts.asp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2561a7"/>
                </a:solidFill>
                <a:uFillTx/>
                <a:latin typeface="Arial Narrow"/>
                <a:hlinkClick r:id="rId5"/>
              </a:rPr>
              <a:t>http://support.microsoft.com/default.aspx?scid=kb;EN-US;Q313482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2561a7"/>
                </a:solidFill>
                <a:uFillTx/>
                <a:latin typeface="Arial Narrow"/>
              </a:rPr>
              <a:t>http://msdn.microsoft.com/library/default.asp?url=/library/en-us/dnadvnet/html/vbnet02252003.asp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GB" sz="3600" spc="-1" strike="noStrike">
                <a:solidFill>
                  <a:srgbClr val="808080"/>
                </a:solidFill>
                <a:latin typeface="Arial Narrow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imple Bi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The binding of a control to a public property of a class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marL="284040" indent="-284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mplex Bi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The binding of a control to a class that supports a lis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Specifically the list object must support the IList interface.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US" sz="3600" spc="-1" strike="noStrike">
                <a:solidFill>
                  <a:srgbClr val="808080"/>
                </a:solidFill>
                <a:latin typeface="Arial Narrow"/>
              </a:rPr>
              <a:t>Binding Manager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rrency Manag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imple and Complex Binding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Uses Interfaces or reflection to bind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marL="284040" indent="-284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erty Manag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imple Binding  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Uses reflection to bind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ataflo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4961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114800" y="2467080"/>
            <a:ext cx="472428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Narrow"/>
              </a:rPr>
              <a:t>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GB" sz="3600" spc="-1" strike="noStrike">
                <a:solidFill>
                  <a:srgbClr val="808080"/>
                </a:solidFill>
                <a:latin typeface="Arial Narrow"/>
              </a:rPr>
              <a:t>Collectio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ust Implement ILi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Most convenient to inherit from CollectionBase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marL="284040" indent="-284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ust implement a default Array property called It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mber class properties must be publish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GB" sz="3600" spc="-1" strike="noStrike">
                <a:solidFill>
                  <a:srgbClr val="808080"/>
                </a:solidFill>
                <a:latin typeface="Arial Narrow"/>
              </a:rPr>
              <a:t>Navigating the collec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urrencyManag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Position, read and write, so can increment and decremen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Current, contains the selected objec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Refresh, update the bound component.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GB" sz="3600" spc="-1" strike="noStrike">
                <a:solidFill>
                  <a:srgbClr val="808080"/>
                </a:solidFill>
                <a:latin typeface="Arial Narrow"/>
              </a:rPr>
              <a:t>Showing chang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cheats way – Currency Manager, refres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BindingLi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Change Notification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Automatic Addition of Items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Automatic Removal of Items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In place Editing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Searching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Sor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atabinding </a:t>
            </a:r>
            <a:r>
              <a:rPr b="0" lang="en-GB" sz="3600" spc="-1" strike="noStrike">
                <a:solidFill>
                  <a:srgbClr val="808080"/>
                </a:solidFill>
                <a:latin typeface="Arial Narrow"/>
              </a:rPr>
              <a:t>Simple bind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2 way, but there is a trick to 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Implement a </a:t>
            </a:r>
            <a:r>
              <a:rPr b="0" i="1" lang="en-GB" sz="2400" spc="-1" strike="noStrike">
                <a:solidFill>
                  <a:srgbClr val="808080"/>
                </a:solidFill>
                <a:latin typeface="Arial Narrow"/>
              </a:rPr>
              <a:t>propertyname</a:t>
            </a:r>
            <a:r>
              <a:rPr b="0" lang="en-GB" sz="2400" spc="-1" strike="noStrike">
                <a:solidFill>
                  <a:srgbClr val="808080"/>
                </a:solidFill>
                <a:latin typeface="Arial Narrow"/>
              </a:rPr>
              <a:t>Changed even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marL="284040" indent="-284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inding class allows us to provide custom parsing and formatt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23:36:18Z</dcterms:created>
  <dc:creator> </dc:creator>
  <dc:description/>
  <dc:language>en-US</dc:language>
  <cp:lastModifiedBy>Tim Jarvis</cp:lastModifiedBy>
  <dcterms:modified xsi:type="dcterms:W3CDTF">2004-03-02T00:02:04Z</dcterms:modified>
  <cp:revision>111</cp:revision>
  <dc:subject/>
  <dc:title>Slide 1</dc:title>
</cp:coreProperties>
</file>